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032-5DDA-47FE-9AA0-0C19EA3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8C5-46E0-4E93-B8CA-133C544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E7E60-DC6B-43A3-A3B1-753A60A5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8DC7-7A8D-4CDE-B9B3-B558EB8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E5828-C5BE-4908-BA78-AB302D3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0DF58-E09C-4CE6-9000-68CD9BA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A2964-0F5E-441B-A42F-CD87DDA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13751-9FF8-4F95-B8F8-87F6B61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1A5F3-E17B-4ED5-85FE-0ACD82C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36F0-9CC4-45BF-9313-09BEEE2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F3370-BEC1-4B1C-BE1B-8A1ECA27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25CE1-16B4-4F4E-89D7-9687834E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75A-8631-4466-9F26-6162D9FE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7075F-EB6E-4E2D-BA8A-46701E23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FB4D2-D98A-4922-8D31-E6CB0EB2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1325E-438A-4454-8C18-16887770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197E-2003-4DF3-905E-FA85D83A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197F1-1EC8-49AA-8EF4-45839DF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4AC36-AA27-4664-A73B-B1C65E7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A0BE8-2CB0-4C66-BDA2-7D6446F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B70E-CCB6-4D93-9AA7-63264C5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4D43-F7BC-4E6A-8119-92E5A9C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DE713-CE68-4BC5-AE72-9AF0DF6B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C3C-A857-429C-ADCB-50684E3E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0A0A-A334-42DE-84E5-10BCF309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40C8-95A2-4E73-A250-D3D53D49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1409E-2357-49BF-B1BE-E403522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291A6-D88A-4913-99BA-F22D617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13467-75DA-4C66-B921-4C3AC88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CC189-6129-4375-ACC8-E3E48E01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9757-DBD3-446D-9874-A06891B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6D689-B8A1-4D8B-AD43-1B8C5E4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07897-5A4E-44CF-B077-8AA9C93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5D30-2175-44EF-A7B6-90BB8DA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0F1-F89A-4FCF-B18C-35E266DE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C879C-F612-47E6-A2D5-5433FCFE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5C5E1-E066-4F85-9399-041006A2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6AD4-C6CB-4F43-A414-969FC458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F31F6-D22D-4467-828A-6C882C0F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2214D-20D1-4F44-8743-4955E1E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D6E55-82AA-4B2C-9674-DEDEF56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EFE3E-E7C3-4441-A642-238C633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C3D40-9BD4-46FF-99A5-20462C49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A4DB0-7C5A-4A60-B9EC-FD96C64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0A086-72E6-485D-8B62-35783B95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F0E-053E-491D-9AE6-67C039B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D296F-090C-42C8-A093-85D848F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1DA34-23C3-4B1F-8A17-07DD595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41D03-6CE0-4FC9-BE41-0E38C22F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DAD5-1C2A-4905-ABA8-E145F3A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26358-A54C-4E97-A5ED-43E5979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91FB-EE39-4B3C-9301-E10AA4A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997-8696-4BAE-BAA7-C8EFF22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19AA-6180-4052-863E-6E1F286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6AFF-F754-4878-8562-F7377EBB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6FB6-689C-4CC1-A781-A98CB8C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9F9-F9DD-476A-863C-ED38F3A1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0F7-C5C0-45F4-ABE4-41C8C10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571-694D-47B6-A226-E5AB51A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63A5-69DD-4FDD-ABEF-8097D95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A92-9744-4638-945E-34A259A4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B55-035B-4155-A4F3-453F7E36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F267-4386-4DFB-BB59-7E04DEAF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C568-6191-42DC-BBD8-2BE8365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ACAB-9B28-4075-AFBF-A3CD21A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07E0-0432-49DE-A8D5-AFA82A30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E9B3-78EF-4F04-BB3E-2F0A6B2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4B1-C0E6-4FC3-94C9-B7B1E970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B35F-5736-4355-A65A-72AA1C14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959D-E903-4B05-B9BA-C6AC329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092E-55D5-4B3D-B561-886DFBA1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7AE8-7B42-4BC6-9C4D-674CFEE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8D7A-B7B9-4FBD-8DCF-A8DD3739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58EC-B6CF-40D8-BCED-88079AC1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4324-2DE4-412C-B739-221BC14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5320-5D65-433E-AA66-9E086192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B1C7-65CE-4299-BBED-16C7ADE5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1224-33BE-4900-8DF2-AA922C18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B2A-00FE-49AE-A9D0-63A81D9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EC73-4C0B-4348-AA62-55D430D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D8F9-8C51-4451-BEA9-E3371461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089A-1FA1-43F7-ADD0-0EDB9CA4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3AAA-8A65-4283-82D4-5499357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2545-A232-41AC-9C0E-729E3FB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4343-4920-4E30-A62E-C5991A6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BEB7-43A6-4F88-893E-C485DFE5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A152-9746-4666-9147-58CC2242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0579-75FD-4D76-A365-F09AE48C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9310-22C2-4888-8714-8365DA94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187-66F0-492C-A1C4-83A0240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0441-77A9-492A-AFF6-A363E47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8FDD-B2AB-48C7-B909-BE489E3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CC3A-5E54-47FE-8FC5-1F352E3B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4389-47FB-467C-A36A-EA5BE6A2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EB06-DFB1-48CB-BA39-FBFE1FAE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D5F4-B7CA-4565-9A09-5B2F141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B0E35-5594-48A8-B290-BE66E11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9692-ED3E-4ABF-AFB8-1F1D01C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A557-4BC6-4F8B-AE0F-B91D7691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2D852-0614-459C-BE9A-33718C4B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4E1-D107-4DEF-AEBA-3B1D580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179D-E681-4B48-80F3-6BAAE8DE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4F63-7B0C-44B2-8AE9-F69E512B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526F-B6DF-4A65-8F40-E3F2B3C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EA66-41C3-4EBB-BE91-BC9E539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7484-3310-4E7A-B52D-AC9A52F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9598-657F-4C44-942A-8BA2657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3BF9-8870-4BA8-A4E6-1054DFC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9B9D-9280-48F1-8C35-9D0CF0E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A215-0B5A-45B6-90FA-E1ADEF22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BECA-CCC0-4747-9C09-5286473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19A-996E-4A06-9D5D-3E47411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3CAF-40C7-485B-B211-22F3BCFB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CDD2-A2B8-48A9-BDFE-6A2E6190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F28C-C6E5-4BE4-80AE-586341CD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756B-B788-4494-BC36-84248FF1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E750-50B2-412D-9C21-62634B8F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8BE0-8295-4C76-89E7-0624A69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E829-75C4-456F-BB93-83938428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11D3-AE1E-4C90-A84D-716CEB28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54E2-C7B5-4439-BEA1-D90B6E39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90E2-AE95-4EFD-A9D8-4EBB77B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27E-90DB-4680-AF34-7AB4039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2731-755A-4BB1-B185-FD05470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192F2-674F-437D-BCA2-15EFC51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49F61-6E74-4B88-8537-3F691145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8419-9F6A-4118-8ED8-37AC832A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08267-BB42-4DBC-9B01-411F1A7D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B1A5-BBBC-46A0-A21F-6E44E016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6112-D0E7-4FF3-BCDB-80FE1C7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B36D-82A3-4F2A-BB21-F3D0A48E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14A3-E236-4C81-9999-25E3ECE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2F31-E9CE-4118-8414-A76A7D4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F74-C3D7-48E6-ADBF-85C5210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B903-AF49-4C03-BE07-1C68613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5967-7709-45F2-A792-20C11E3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A9EA-FDB7-4D94-8903-377BBD85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FE495-520C-4309-8CEC-8AFD821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E63A0-7ECF-47E8-992D-BB30E34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9D4A-5E33-4AEC-836A-C3A6B124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292A-FF6C-4609-96F4-825D165E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C358F-DB3A-43C5-8DEE-2B9D8198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D5356-0203-46FE-ADD8-693AE1C8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3005A-7F4E-4ACB-BFF9-E130BD0D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1F2-52FC-43A8-9E3D-4FB5D87DBA5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3C4-F220-49DE-872D-0729BE1598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F03-A519-4121-8D3A-619D4EEAF9C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2DA-44DC-4C0C-8ECB-10641174EB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3733-4301-4DCC-A995-0C579E2408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A7D-57F5-4BD8-AC83-35FD2D0B91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8164-7090-414A-AB5D-581CCEFAF7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CC6E-C571-40C6-9BD1-46B0938E77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743-9D71-4F73-A35E-A0B7DDDA89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8E0-27FC-45B0-8302-A66BD54D51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3E3-621D-4948-A0A9-540D62CB67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DD5-9701-4E9D-90A7-0940C60E6B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4 Na základe pevnom stavi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áklade pevnom stavia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 viery, na vekov Ska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príboji búrok neskl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poľahlivá stá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iesku kto sta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 svoj chc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človeka sľuboch klamný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nad troskami sa ocit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nov, nádejí len márny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Skala je spásy ist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stavia dom viery na n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v Kristovi zmysel živo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kotví jeho ná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torom stavia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46:42Z</dcterms:modified>
  <cp:revision>21</cp:revision>
  <dc:subject/>
  <dc:title>Je veľký náš Pán, on slávy je Kráľ Nech do všetkých strán  spev vrúcnych znie chvál.</dc:title>
</cp:coreProperties>
</file>